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43463" cy="21604288"/>
  <p:notesSz cx="19634200" cy="29386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C19-8E3D-4D25-A5AC-EF1993F8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2360" y="865080"/>
            <a:ext cx="27217800" cy="36007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ctr">
            <a:noAutofit/>
          </a:bodyPr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2360" y="5040360"/>
            <a:ext cx="272178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2360" y="12487680"/>
            <a:ext cx="272178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789-BEA7-40BC-86C9-81C485BF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2360" y="865080"/>
            <a:ext cx="27217800" cy="36007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ctr">
            <a:noAutofit/>
          </a:bodyPr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2360" y="5040360"/>
            <a:ext cx="132822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59120" y="5040360"/>
            <a:ext cx="132822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2360" y="12487680"/>
            <a:ext cx="132822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59120" y="12487680"/>
            <a:ext cx="132822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71A-E447-49CE-926B-9653E207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2360" y="865080"/>
            <a:ext cx="27217800" cy="36007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ctr">
            <a:noAutofit/>
          </a:bodyPr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2360" y="5040360"/>
            <a:ext cx="876384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14680" y="5040360"/>
            <a:ext cx="876384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17360" y="5040360"/>
            <a:ext cx="876384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2360" y="12487680"/>
            <a:ext cx="876384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14680" y="12487680"/>
            <a:ext cx="876384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17360" y="12487680"/>
            <a:ext cx="876384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2CD-7A33-4EFF-84C9-CC4228DD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2360" y="865080"/>
            <a:ext cx="27217800" cy="36007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ctr">
            <a:noAutofit/>
          </a:bodyPr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2360" y="5040360"/>
            <a:ext cx="27217800" cy="14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99"/>
              </a:spcBef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7C6-94EC-48F9-AEB1-6AE132CE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2360" y="865080"/>
            <a:ext cx="27217800" cy="36007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ctr">
            <a:noAutofit/>
          </a:bodyPr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2360" y="5040360"/>
            <a:ext cx="27217800" cy="1425744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7F1-4AEF-4822-8634-F92954F0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2360" y="865080"/>
            <a:ext cx="27217800" cy="36007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ctr">
            <a:noAutofit/>
          </a:bodyPr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2360" y="5040360"/>
            <a:ext cx="13282200" cy="1425744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59120" y="5040360"/>
            <a:ext cx="13282200" cy="1425744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A5B-B5CA-473E-A562-CECACC2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2360" y="865080"/>
            <a:ext cx="27217800" cy="36007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ctr">
            <a:noAutofit/>
          </a:bodyPr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62C-8335-4011-8C9F-D1B2CB67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2360" y="865080"/>
            <a:ext cx="27217800" cy="166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99"/>
              </a:spcBef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E10-07D5-4938-9C02-D83BBA28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2360" y="865080"/>
            <a:ext cx="27217800" cy="36007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ctr">
            <a:noAutofit/>
          </a:bodyPr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2360" y="5040360"/>
            <a:ext cx="132822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59120" y="5040360"/>
            <a:ext cx="13282200" cy="1425744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2360" y="12487680"/>
            <a:ext cx="132822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F7C-E013-4B71-85EE-EA81A21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2360" y="865080"/>
            <a:ext cx="27217800" cy="36007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ctr">
            <a:noAutofit/>
          </a:bodyPr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2360" y="5040360"/>
            <a:ext cx="13282200" cy="1425744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59120" y="5040360"/>
            <a:ext cx="132822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59120" y="12487680"/>
            <a:ext cx="132822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4E0-7753-4ACA-82D3-5DB58CEB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2360" y="865080"/>
            <a:ext cx="27217800" cy="36007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ctr">
            <a:noAutofit/>
          </a:bodyPr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2360" y="5040360"/>
            <a:ext cx="132822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59120" y="5040360"/>
            <a:ext cx="132822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2360" y="12487680"/>
            <a:ext cx="27217800" cy="680076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2962440"/>
                <a:tab algn="l" pos="5924520"/>
                <a:tab algn="l" pos="8886960"/>
              </a:tabLst>
            </a:pP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54E-463A-4238-ABD9-6BC65FA0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2360" y="865080"/>
            <a:ext cx="27217800" cy="36007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ctr">
            <a:noAutofit/>
          </a:bodyPr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2360" y="5040360"/>
            <a:ext cx="27217800" cy="1425744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rmAutofit/>
          </a:bodyPr>
          <a:p>
            <a:pPr marL="1111320" indent="-1111320">
              <a:spcBef>
                <a:spcPts val="2599"/>
              </a:spcBef>
              <a:buClr>
                <a:srgbClr val="000000"/>
              </a:buClr>
              <a:buFont typeface="Arial"/>
              <a:buChar char="•"/>
              <a:tabLst>
                <a:tab algn="l" pos="2962440"/>
                <a:tab algn="l" pos="5924520"/>
                <a:tab algn="l" pos="888696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  <a:p>
            <a:pPr lvl="1" marL="2406600" indent="-925560">
              <a:spcBef>
                <a:spcPts val="2599"/>
              </a:spcBef>
              <a:buClr>
                <a:srgbClr val="000000"/>
              </a:buClr>
              <a:buFont typeface="Arial"/>
              <a:buChar char="–"/>
              <a:tabLst>
                <a:tab algn="l" pos="2962440"/>
                <a:tab algn="l" pos="5924520"/>
                <a:tab algn="l" pos="888696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  <a:p>
            <a:pPr lvl="2" marL="3703680" indent="-741240">
              <a:spcBef>
                <a:spcPts val="2599"/>
              </a:spcBef>
              <a:buClr>
                <a:srgbClr val="000000"/>
              </a:buClr>
              <a:buFont typeface="Arial"/>
              <a:buChar char="•"/>
              <a:tabLst>
                <a:tab algn="l" pos="2962440"/>
                <a:tab algn="l" pos="5924520"/>
                <a:tab algn="l" pos="888696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  <a:p>
            <a:pPr lvl="3" marL="5184720" indent="-741240">
              <a:spcBef>
                <a:spcPts val="2599"/>
              </a:spcBef>
              <a:buClr>
                <a:srgbClr val="000000"/>
              </a:buClr>
              <a:buFont typeface="Arial"/>
              <a:buChar char="–"/>
              <a:tabLst>
                <a:tab algn="l" pos="2962440"/>
                <a:tab algn="l" pos="5924520"/>
                <a:tab algn="l" pos="888696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  <a:p>
            <a:pPr lvl="4" marL="6665760" indent="-741240">
              <a:spcBef>
                <a:spcPts val="2599"/>
              </a:spcBef>
              <a:buClr>
                <a:srgbClr val="000000"/>
              </a:buClr>
              <a:buFont typeface="Arial"/>
              <a:buChar char="»"/>
              <a:tabLst>
                <a:tab algn="l" pos="2962440"/>
                <a:tab algn="l" pos="5924520"/>
                <a:tab algn="l" pos="888696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  <a:p>
            <a:pPr lvl="5" marL="6665760" indent="-741240">
              <a:spcBef>
                <a:spcPts val="2599"/>
              </a:spcBef>
              <a:buClr>
                <a:srgbClr val="000000"/>
              </a:buClr>
              <a:buFont typeface="Arial"/>
              <a:buChar char="»"/>
              <a:tabLst>
                <a:tab algn="l" pos="2962440"/>
                <a:tab algn="l" pos="5924520"/>
                <a:tab algn="l" pos="888696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  <a:p>
            <a:pPr lvl="6" marL="6665760" indent="-741240">
              <a:spcBef>
                <a:spcPts val="2599"/>
              </a:spcBef>
              <a:buClr>
                <a:srgbClr val="000000"/>
              </a:buClr>
              <a:buFont typeface="Arial"/>
              <a:buChar char="»"/>
              <a:tabLst>
                <a:tab algn="l" pos="2962440"/>
                <a:tab algn="l" pos="5924520"/>
                <a:tab algn="l" pos="888696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2720" y="19671840"/>
            <a:ext cx="7056720" cy="15001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Autofit/>
          </a:bodyPr>
          <a:lstStyle>
            <a:lvl1pPr indent="0">
              <a:buNone/>
              <a:tabLst>
                <a:tab algn="l" pos="0"/>
                <a:tab algn="l" pos="2962440"/>
                <a:tab algn="l" pos="5924520"/>
                <a:tab algn="l" pos="8886960"/>
              </a:tabLst>
              <a:defRPr b="0" lang="en-US" sz="4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33080" y="19671840"/>
            <a:ext cx="9577440" cy="15001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Autofit/>
          </a:bodyPr>
          <a:lstStyle>
            <a:lvl1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  <a:defRPr b="0" lang="en-US" sz="4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73800" y="19671840"/>
            <a:ext cx="7056360" cy="150012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Autofit/>
          </a:bodyPr>
          <a:lstStyle>
            <a:lvl1pPr indent="0" algn="r">
              <a:buNone/>
              <a:tabLst>
                <a:tab algn="l" pos="0"/>
                <a:tab algn="l" pos="2962440"/>
                <a:tab algn="l" pos="5924520"/>
                <a:tab algn="l" pos="8886960"/>
              </a:tabLst>
              <a:defRPr b="0" lang="en-US" sz="4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962440"/>
                <a:tab algn="l" pos="5924520"/>
                <a:tab algn="l" pos="8886960"/>
              </a:tabLst>
            </a:pPr>
            <a:fld id="{884EC294-BDAD-4DD6-BFE5-148F008FD2FB}" type="slidenum">
              <a:rPr b="0" lang="en-US" sz="4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02520" y="11953800"/>
            <a:ext cx="9793080" cy="905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763240" y="11233080"/>
            <a:ext cx="5759640" cy="38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24000" y="-5688000"/>
            <a:ext cx="18721440" cy="25418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871640" y="1584000"/>
            <a:ext cx="27866880" cy="14689080"/>
          </a:xfrm>
          <a:prstGeom prst="rect">
            <a:avLst/>
          </a:prstGeom>
          <a:noFill/>
          <a:ln w="0">
            <a:noFill/>
          </a:ln>
        </p:spPr>
        <p:txBody>
          <a:bodyPr lIns="296280" rIns="296280" tIns="147960" bIns="147960" anchor="t">
            <a:noAutofit/>
          </a:bodyPr>
          <a:p>
            <a:pPr>
              <a:spcBef>
                <a:spcPts val="6701"/>
              </a:spcBef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1" i="1" lang="en-US" sz="26800" spc="-1" strike="noStrike">
                <a:solidFill>
                  <a:srgbClr val="000000"/>
                </a:solidFill>
                <a:latin typeface="Arial"/>
              </a:rPr>
              <a:t>Bete und Knote -</a:t>
            </a:r>
            <a:endParaRPr b="0" lang="en-US" sz="26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701"/>
              </a:spcBef>
              <a:tabLst>
                <a:tab algn="l" pos="0"/>
                <a:tab algn="l" pos="2962440"/>
                <a:tab algn="l" pos="5924520"/>
                <a:tab algn="l" pos="8886960"/>
              </a:tabLst>
            </a:pPr>
            <a:r>
              <a:rPr b="1" i="1" lang="en-US" sz="26800" spc="-1" strike="noStrike">
                <a:solidFill>
                  <a:srgbClr val="000000"/>
                </a:solidFill>
                <a:latin typeface="Arial"/>
              </a:rPr>
              <a:t>Knüpf an!</a:t>
            </a:r>
            <a:endParaRPr b="0" lang="en-US" sz="2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1640" y="1742616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4198120" y="12326760"/>
            <a:ext cx="50371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9:06:11Z</dcterms:created>
  <dc:creator>bod2rt</dc:creator>
  <dc:description/>
  <dc:language>en-US</dc:language>
  <cp:lastModifiedBy>bod2rt</cp:lastModifiedBy>
  <dcterms:modified xsi:type="dcterms:W3CDTF">2005-10-05T09:42:11Z</dcterms:modified>
  <cp:revision>3</cp:revision>
  <dc:subject/>
  <dc:title>Folie 1</dc:title>
</cp:coreProperties>
</file>